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65.jpeg" ContentType="image/jpeg"/>
  <Override PartName="/ppt/media/image78.jpeg" ContentType="image/jpeg"/>
  <Override PartName="/ppt/media/image70.jpeg" ContentType="image/jpeg"/>
  <Override PartName="/ppt/media/image43.jpeg" ContentType="image/jpeg"/>
  <Override PartName="/ppt/media/image72.png" ContentType="image/png"/>
  <Override PartName="/ppt/media/image24.jpeg" ContentType="image/jpeg"/>
  <Override PartName="/ppt/media/image83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23.jpeg" ContentType="image/jpeg"/>
  <Override PartName="/ppt/media/image82.jpeg" ContentType="image/jpeg"/>
  <Override PartName="/ppt/media/image76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1.png" ContentType="image/png"/>
  <Override PartName="/ppt/media/image68.jpeg" ContentType="image/jpeg"/>
  <Override PartName="/ppt/media/image71.jpeg" ContentType="image/jpeg"/>
  <Override PartName="/ppt/media/image67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695-970A-4A08-A4AE-71AF0388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39F-4CDA-4231-9751-D8C8B3C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AC7-4A38-4E90-B58A-F5BF1244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4D0-5708-46C1-BBAB-C02B58A1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158-3FA1-40F8-8811-71F6EC1E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659-6B44-485E-86A5-0A19BB8F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5B4-255B-45F7-83F7-6BC48D2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CA9-1E5B-4114-B589-E138D59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885-4DB9-4EA0-AA2D-CAA9218A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A99-5434-4088-AC8E-517A015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C2E-7D74-4573-95D3-0A859EE5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926-97B5-4DA5-8D10-F4035896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B8B6-6A04-4477-888D-7BBD821D4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kegershon@hotmail.com" TargetMode="External"/><Relationship Id="rId2" Type="http://schemas.openxmlformats.org/officeDocument/2006/relationships/hyperlink" Target="http://www.aaia.org.uk/pdf/Publications/AAIA%20Pupils%20Learning%20from%20Teachers&apos;%20Responses.pdf" TargetMode="External"/><Relationship Id="rId3" Type="http://schemas.openxmlformats.org/officeDocument/2006/relationships/hyperlink" Target="http://www.aaia.org.uk/pdf/Publications/AAIAformat4.pdf" TargetMode="External"/><Relationship Id="rId4" Type="http://schemas.openxmlformats.org/officeDocument/2006/relationships/hyperlink" Target="http://www.aaia.org.uk/pdf/asst_learning_practice.pdf" TargetMode="External"/><Relationship Id="rId5" Type="http://schemas.openxmlformats.org/officeDocument/2006/relationships/hyperlink" Target="http://community.tes.co.uk/forums/t/300200.aspx" TargetMode="External"/><Relationship Id="rId6" Type="http://schemas.openxmlformats.org/officeDocument/2006/relationships/hyperlink" Target="http://www.schoolhistory.co.uk/forum/lofiversion/index.php/t7669.html" TargetMode="External"/><Relationship Id="rId7" Type="http://schemas.openxmlformats.org/officeDocument/2006/relationships/hyperlink" Target="http://www.harford.edu/irc/assessment/FormativeAssessmentActivities.doc" TargetMode="External"/><Relationship Id="rId8" Type="http://schemas.openxmlformats.org/officeDocument/2006/relationships/hyperlink" Target="http://www.harford.edu/irc/assessment/FormativeAssessmentActivities.doc" TargetMode="External"/><Relationship Id="rId9" Type="http://schemas.openxmlformats.org/officeDocument/2006/relationships/hyperlink" Target="http://www.harford.edu/irc/assessment/FormativeAssessmentActivities.doc" TargetMode="External"/><Relationship Id="rId10" Type="http://schemas.openxmlformats.org/officeDocument/2006/relationships/hyperlink" Target="http://www.harford.edu/irc/assessment/FormativeAssessmentActivities.doc" TargetMode="External"/><Relationship Id="rId11" Type="http://schemas.openxmlformats.org/officeDocument/2006/relationships/hyperlink" Target="http://www.harford.edu/irc/assessment/FormativeAssessmentActivities.doc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7.xml"/><Relationship Id="rId17" Type="http://schemas.openxmlformats.org/officeDocument/2006/relationships/slide" Target="slide72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71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41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slide" Target="slide33.xml"/><Relationship Id="rId35" Type="http://schemas.openxmlformats.org/officeDocument/2006/relationships/slide" Target="slide34.xml"/><Relationship Id="rId36" Type="http://schemas.openxmlformats.org/officeDocument/2006/relationships/slide" Target="slide35.xml"/><Relationship Id="rId37" Type="http://schemas.openxmlformats.org/officeDocument/2006/relationships/slide" Target="slide36.xml"/><Relationship Id="rId38" Type="http://schemas.openxmlformats.org/officeDocument/2006/relationships/slide" Target="slide37.xml"/><Relationship Id="rId39" Type="http://schemas.openxmlformats.org/officeDocument/2006/relationships/slide" Target="slide38.xml"/><Relationship Id="rId40" Type="http://schemas.openxmlformats.org/officeDocument/2006/relationships/slide" Target="slide39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4.xml"/><Relationship Id="rId47" Type="http://schemas.openxmlformats.org/officeDocument/2006/relationships/slide" Target="slide47.xml"/><Relationship Id="rId48" Type="http://schemas.openxmlformats.org/officeDocument/2006/relationships/slide" Target="slide48.xml"/><Relationship Id="rId49" Type="http://schemas.openxmlformats.org/officeDocument/2006/relationships/slide" Target="slide49.xml"/><Relationship Id="rId50" Type="http://schemas.openxmlformats.org/officeDocument/2006/relationships/slide" Target="slide50.xml"/><Relationship Id="rId51" Type="http://schemas.openxmlformats.org/officeDocument/2006/relationships/slide" Target="slide51.xml"/><Relationship Id="rId52" Type="http://schemas.openxmlformats.org/officeDocument/2006/relationships/slide" Target="slide52.xml"/><Relationship Id="rId53" Type="http://schemas.openxmlformats.org/officeDocument/2006/relationships/slide" Target="slide53.xml"/><Relationship Id="rId54" Type="http://schemas.openxmlformats.org/officeDocument/2006/relationships/slide" Target="slide54.xml"/><Relationship Id="rId55" Type="http://schemas.openxmlformats.org/officeDocument/2006/relationships/slide" Target="slide55.xml"/><Relationship Id="rId56" Type="http://schemas.openxmlformats.org/officeDocument/2006/relationships/slide" Target="slide56.xml"/><Relationship Id="rId57" Type="http://schemas.openxmlformats.org/officeDocument/2006/relationships/slide" Target="slide57.xml"/><Relationship Id="rId58" Type="http://schemas.openxmlformats.org/officeDocument/2006/relationships/slide" Target="slide58.xml"/><Relationship Id="rId59" Type="http://schemas.openxmlformats.org/officeDocument/2006/relationships/slide" Target="slide59.xml"/><Relationship Id="rId60" Type="http://schemas.openxmlformats.org/officeDocument/2006/relationships/slide" Target="slide60.xml"/><Relationship Id="rId61" Type="http://schemas.openxmlformats.org/officeDocument/2006/relationships/slide" Target="slide61.xml"/><Relationship Id="rId62" Type="http://schemas.openxmlformats.org/officeDocument/2006/relationships/slide" Target="slide62.xml"/><Relationship Id="rId63" Type="http://schemas.openxmlformats.org/officeDocument/2006/relationships/slide" Target="slide63.xml"/><Relationship Id="rId64" Type="http://schemas.openxmlformats.org/officeDocument/2006/relationships/slide" Target="slide64.xml"/><Relationship Id="rId65" Type="http://schemas.openxmlformats.org/officeDocument/2006/relationships/slide" Target="slide65.xml"/><Relationship Id="rId66" Type="http://schemas.openxmlformats.org/officeDocument/2006/relationships/slide" Target="slide66.xml"/><Relationship Id="rId67" Type="http://schemas.openxmlformats.org/officeDocument/2006/relationships/slide" Target="slide67.xml"/><Relationship Id="rId68" Type="http://schemas.openxmlformats.org/officeDocument/2006/relationships/slide" Target="slide68.xml"/><Relationship Id="rId69" Type="http://schemas.openxmlformats.org/officeDocument/2006/relationships/slide" Target="slide69.xml"/><Relationship Id="rId70" Type="http://schemas.openxmlformats.org/officeDocument/2006/relationships/slide" Target="slide70.xml"/><Relationship Id="rId71" Type="http://schemas.openxmlformats.org/officeDocument/2006/relationships/image" Target="../media/image2.png"/><Relationship Id="rId7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hyperlink" Target="http://www.aaia.org.uk/pdf/Publications/AAIAformat4.pdf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lasstools.net/" TargetMode="External"/><Relationship Id="rId2" Type="http://schemas.openxmlformats.org/officeDocument/2006/relationships/image" Target="../media/image6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ampus.manchester.ac.uk/ceebl/ebl/" TargetMode="External"/><Relationship Id="rId2" Type="http://schemas.openxmlformats.org/officeDocument/2006/relationships/image" Target="../media/image7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58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For Learn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egershon@hotmail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3903840"/>
            <a:ext cx="85726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aia.org.uk/pdf/Publications/AAIA%20Pupils%20Learning%20from%20Teachers'%20Respons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ia.org.uk/pdf/Publications/AAIAformat4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aia.org.uk/pdf/asst_learning_practice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ommunity.tes.co.uk/forums/t/300200.aspx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choolhistory.co.uk/forum/lofiversion/index.php/t7669.html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harford.edu/irc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ssessment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mativeAssessmentActivities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doc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pen University Press, Maidenhead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“Working inside the black box”, (nferNelson, London,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and Dylan William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side the Black Box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ferNelson, London, 199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esting, Motivation and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20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19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people’s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parentsandafl.standards.dfes.gov.uk/assets/wrapperbg1.jpg"/>
          <p:cNvPicPr/>
          <p:nvPr/>
        </p:nvPicPr>
        <p:blipFill>
          <a:blip r:embed="rId12"/>
          <a:stretch/>
        </p:blipFill>
        <p:spPr>
          <a:xfrm>
            <a:off x="1428840" y="1071720"/>
            <a:ext cx="3476520" cy="3031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572080" y="150012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L is successful when embedded in teaching and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oolkit aims to help by presenting different facets, activities and tools for teachers to use in order to achiev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ope you find it use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empla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setting students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show them examples that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lear what it is they are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o – and what they need to do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 to meet the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mark exempla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assessment criteria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help model what is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nd how it relates to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elgg.learnblog.net/news/files/1/20/DSC00101.JPG"/>
          <p:cNvPicPr/>
          <p:nvPr/>
        </p:nvPicPr>
        <p:blipFill>
          <a:blip r:embed="rId1"/>
          <a:srcRect l="0" t="0" r="0" b="4362"/>
          <a:stretch/>
        </p:blipFill>
        <p:spPr>
          <a:xfrm>
            <a:off x="4518000" y="1941480"/>
            <a:ext cx="4363920" cy="3130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y taking part in the proces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ssment, students gain a dee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derstanding of topics, the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ssessment and what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ing in their own work. This help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ke them more aware of ‘w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s’ and thus see their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n this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could self- or peer- ma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mework or assess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could be done in pair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ly with a student-mad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ial’ mark-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214880" y="2000160"/>
            <a:ext cx="4554360" cy="340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aims 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t lesson objectives on the board at the beginning of the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lk to students about why they are studying what they are study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ualise short-term aims in long-term aims (e.g. analysing Shakespeare will contribute to a wider knowledge of the cultural canon and stronger analytical skills among other long term ai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eck with students that they are clear about the aims of the lesson/unit/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 aims in conjunction with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www.cs.miami.edu/~tptp/Seminars/CASC/GIFS/Aims.JPG"/>
          <p:cNvPicPr/>
          <p:nvPr/>
        </p:nvPicPr>
        <p:blipFill>
          <a:blip r:embed="rId1"/>
          <a:stretch/>
        </p:blipFill>
        <p:spPr>
          <a:xfrm>
            <a:off x="4929120" y="1928880"/>
            <a:ext cx="3892680" cy="3016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Target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the lesson more purposefu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by setting targets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ginning about what you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are going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can be referred to throug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and/or revisited in the ple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have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met targets in th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/or set targets fo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leads the review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or unit using question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cit understanding from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could also fall up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iveness of the less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ing learning – i.e. can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 of ways that it could be alt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rove their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could model review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ng the lesson in relatio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own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whitehead.mit.edu/news/paradigm/spring_2008/img/peer_review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02000" cy="310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review their own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in groups or individually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 done as a plenary,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-plenary or as an activity to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for future revision 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ainder of the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secondarydandt.org/data/images/width120/reviewing.jpg"/>
          <p:cNvPicPr/>
          <p:nvPr/>
        </p:nvPicPr>
        <p:blipFill>
          <a:blip r:embed="rId1"/>
          <a:stretch/>
        </p:blipFill>
        <p:spPr>
          <a:xfrm>
            <a:off x="5072040" y="1643040"/>
            <a:ext cx="3294000" cy="4667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raffic lights as a visual mean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wing understa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have red, amber and green cards which they show on their desks or in the air. (red = don’t understand, green = totally get i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self-assess using traffic lights. The teacher could then record these visually in their mark 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r assess presentations etc. with traffic li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gocomplainontheinternet.com/wp-content/uploads/2008/11/traffic_light.gif"/>
          <p:cNvPicPr/>
          <p:nvPr/>
        </p:nvPicPr>
        <p:blipFill>
          <a:blip r:embed="rId1"/>
          <a:stretch/>
        </p:blipFill>
        <p:spPr>
          <a:xfrm>
            <a:off x="5429160" y="157176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lf-assessment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give themselves tar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on their self-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learning goal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ed somewhere and revis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.e. inside cover of work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could be compared to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s and the two brough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nsus if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stars and a w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er assessment, 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two stars and a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tars = 2 things that ar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piece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ish = something they can 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ake it even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pmbni.org.uk/img/photos/2stars.jpg"/>
          <p:cNvPicPr/>
          <p:nvPr/>
        </p:nvPicPr>
        <p:blipFill>
          <a:blip r:embed="rId1"/>
          <a:stretch/>
        </p:blipFill>
        <p:spPr>
          <a:xfrm>
            <a:off x="4714920" y="1500120"/>
            <a:ext cx="375120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ticulate then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the opportun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ulate their thinking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ing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 seconds silent thinking before any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storm in pairs first for 2-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some thoughts down before ans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with your neighbour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://www.nimblefingers.ie/shop/images/microsoft/drump0001.jpg"/>
          <p:cNvPicPr/>
          <p:nvPr/>
        </p:nvPicPr>
        <p:blipFill>
          <a:blip r:embed="rId1"/>
          <a:stretch/>
        </p:blipFill>
        <p:spPr>
          <a:xfrm>
            <a:off x="5143680" y="2000160"/>
            <a:ext cx="327636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214200" y="2000160"/>
            <a:ext cx="871380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udents write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udents ask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mment-only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id-unit assessme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‘Might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Wait-ti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pen vs close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xemplar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Student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aking aims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Lesson Target 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Teacher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Student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Traffic Li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2 stars and a w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elf-assessment Targe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One-Sentence Summar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Articulate then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Scene-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Tell your neighb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Idea Thou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Bounc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Wait and reca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Incorrect Discus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Muddiest Poi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Devising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Learning Journa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Redraf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Key featur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Invert the 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Improvement Guidanc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Comment Follow-u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Group feedbac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Peer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Thum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Teach Collabor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Traffic-Light Revi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Generate and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Student Mark-Sche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Group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X and 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All you kno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Correc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Laminated Criter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Conveying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Think through Tal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Discuss Word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Communic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Thoughtful Dialogu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Feedback Sandw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What is good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Self-evalu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What is a ‘good’ question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Graphic Organis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KW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Talk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Post-I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Response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Hands Dow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Question 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Regulating Learn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A B C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Why is it best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Show and Tel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Active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Long and Short Ter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Minute Pap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Enquiry Ques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Smiley Fac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Squ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71"/>
          <a:stretch/>
        </p:blipFill>
        <p:spPr>
          <a:xfrm>
            <a:off x="1401840" y="-19080"/>
            <a:ext cx="62373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ene-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scene for the lesson by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ig, open question or proble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ing task that requires 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ing skills. Anticipate res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follow-up so as to work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A lesson on the Vietnam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gin with the ques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Americans think they fight wars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th09.deviantart.net/fs39/300W/i/2008/323/4/5/Commission__Setting_the_scene_by_NikkieCole.png"/>
          <p:cNvPicPr/>
          <p:nvPr/>
        </p:nvPicPr>
        <p:blipFill>
          <a:blip r:embed="rId1"/>
          <a:stretch/>
        </p:blipFill>
        <p:spPr>
          <a:xfrm>
            <a:off x="4965840" y="1643040"/>
            <a:ext cx="3630600" cy="4357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l your neighb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‘tell their neighbour’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s of articulating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a question, give think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n ask students to tell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ighbour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l students what the new topic is and then ask them to tell their neighbour everything they know abou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dreamstime.com/whispering-thumb3002293.jpg"/>
          <p:cNvPicPr/>
          <p:nvPr/>
        </p:nvPicPr>
        <p:blipFill>
          <a:blip r:embed="rId1"/>
          <a:stretch/>
        </p:blipFill>
        <p:spPr>
          <a:xfrm>
            <a:off x="4827600" y="1766880"/>
            <a:ext cx="3917880" cy="33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ea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you have received an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 question, open up th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ind it by asking what others 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“What do others think about _________’s ide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porteightyeight.files.wordpress.com/2009/06/bright-idea.jpg"/>
          <p:cNvPicPr/>
          <p:nvPr/>
        </p:nvPicPr>
        <p:blipFill>
          <a:blip r:embed="rId1"/>
          <a:stretch/>
        </p:blipFill>
        <p:spPr>
          <a:xfrm>
            <a:off x="3857760" y="271476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ou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nce answers around the room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understanding and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develop stronger reas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 of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immy, what do you thin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’s answ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, how could you devel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’s answer to include more detail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, how might you combine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’ve heard into a single answ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topendsports.com/clipart/pics/albums/basketball/bouncing_ball.gif"/>
          <p:cNvPicPr/>
          <p:nvPr/>
        </p:nvPicPr>
        <p:blipFill>
          <a:blip r:embed="rId1"/>
          <a:srcRect l="0" t="0" r="7738" b="0"/>
          <a:stretch/>
        </p:blipFill>
        <p:spPr>
          <a:xfrm>
            <a:off x="4560840" y="1900080"/>
            <a:ext cx="4094280" cy="4172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 and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 for students to draw out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ey words you are asking fo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reframe the question – asking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ynthesis which recaps the wh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by joining all these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o a single coherent answ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raph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mrs-smiths-class.com/recap.jpg"/>
          <p:cNvPicPr/>
          <p:nvPr/>
        </p:nvPicPr>
        <p:blipFill>
          <a:blip r:embed="rId1"/>
          <a:stretch/>
        </p:blipFill>
        <p:spPr>
          <a:xfrm>
            <a:off x="4857840" y="20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orrect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incorrect answers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en dismissing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it is wrong, or saying ‘that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ing’ etc. 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ption in reasoning to d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ut into th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leads to improv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ived reasoning and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e in which it is OK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www.junkscience.com/JSJ_Course/jsjudocourse/wrong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76840" cy="4311360"/>
          </a:xfrm>
          <a:prstGeom prst="rect">
            <a:avLst/>
          </a:prstGeom>
          <a:ln w="0">
            <a:noFill/>
          </a:ln>
        </p:spPr>
      </p:pic>
      <p:sp>
        <p:nvSpPr>
          <p:cNvPr id="140" name="Oval Callout 8"/>
          <p:cNvSpPr/>
          <p:nvPr/>
        </p:nvSpPr>
        <p:spPr>
          <a:xfrm rot="3146400">
            <a:off x="6710040" y="2158560"/>
            <a:ext cx="2152440" cy="17686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7143840" y="2571840"/>
            <a:ext cx="135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’m glad that’s the wrong answer… let’s discuss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is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se questions tha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 common miscon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conflict that require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ore ambiguity and encourage discussion and cla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ages.suite101.com/966420_com_question.jpg"/>
          <p:cNvPicPr/>
          <p:nvPr/>
        </p:nvPicPr>
        <p:blipFill>
          <a:blip r:embed="rId1"/>
          <a:stretch/>
        </p:blipFill>
        <p:spPr>
          <a:xfrm>
            <a:off x="4786200" y="1714680"/>
            <a:ext cx="3953160" cy="3952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 learning journal in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an reflect on and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learning. It could includ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, a target setting chart, 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oal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www.darton.edu/programs/learning-support/images/journal.gif"/>
          <p:cNvPicPr/>
          <p:nvPr/>
        </p:nvPicPr>
        <p:blipFill>
          <a:blip r:embed="rId1"/>
          <a:stretch/>
        </p:blipFill>
        <p:spPr>
          <a:xfrm>
            <a:off x="5222880" y="1714680"/>
            <a:ext cx="3921120" cy="4684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raf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lesson time to redraf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allows students time to focu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edback for improvement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been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reinforces the valu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and allows them to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it in a supportiv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www.baldworm.co.uk/images/placard_one.jpg"/>
          <p:cNvPicPr/>
          <p:nvPr/>
        </p:nvPicPr>
        <p:blipFill>
          <a:blip r:embed="rId1"/>
          <a:stretch/>
        </p:blipFill>
        <p:spPr>
          <a:xfrm>
            <a:off x="4738680" y="2357280"/>
            <a:ext cx="1333440" cy="1000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www.baldworm.co.uk/images/placard_two.jpg"/>
          <p:cNvPicPr/>
          <p:nvPr/>
        </p:nvPicPr>
        <p:blipFill>
          <a:blip r:embed="rId2"/>
          <a:stretch/>
        </p:blipFill>
        <p:spPr>
          <a:xfrm>
            <a:off x="7286760" y="3500280"/>
            <a:ext cx="95220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baldworm.co.uk/images/placard_three.jpg"/>
          <p:cNvPicPr/>
          <p:nvPr/>
        </p:nvPicPr>
        <p:blipFill>
          <a:blip r:embed="rId3"/>
          <a:stretch/>
        </p:blipFill>
        <p:spPr>
          <a:xfrm>
            <a:off x="5572080" y="5572080"/>
            <a:ext cx="952560" cy="71460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9"/>
          <p:cNvSpPr/>
          <p:nvPr/>
        </p:nvSpPr>
        <p:spPr>
          <a:xfrm rot="18099600">
            <a:off x="6555240" y="298656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0"/>
          <p:cNvSpPr/>
          <p:nvPr/>
        </p:nvSpPr>
        <p:spPr>
          <a:xfrm rot="2329800">
            <a:off x="6881760" y="4183200"/>
            <a:ext cx="357120" cy="15825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designing written tasks to 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oral work, intend for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and show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key features of what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regmedia.co.uk/2007/02/12/rim_bb_8800_1.jpg"/>
          <p:cNvPicPr/>
          <p:nvPr/>
        </p:nvPicPr>
        <p:blipFill>
          <a:blip r:embed="rId1"/>
          <a:stretch/>
        </p:blipFill>
        <p:spPr>
          <a:xfrm>
            <a:off x="4357800" y="3071880"/>
            <a:ext cx="4286160" cy="3448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writ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exampl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bout what they would like to know on a new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ask the teacher or other students in order to assess their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demonstrate their learning/misconceptions/areas they would like to further exp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lassroom could have a question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re students drop question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d of a less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, a plenary could involve students 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uestions that the class then work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gether, or forms the basis of the next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ljmu.ac.uk/Images_Everyone/signingdocument.jpg"/>
          <p:cNvPicPr/>
          <p:nvPr/>
        </p:nvPicPr>
        <p:blipFill>
          <a:blip r:embed="rId1"/>
          <a:stretch/>
        </p:blipFill>
        <p:spPr>
          <a:xfrm>
            <a:off x="5072040" y="1357200"/>
            <a:ext cx="3228840" cy="5010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rovement Gu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making comments on pupil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treat them like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wing how the pupil can impr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this by asking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in the same way when p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ing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the notion of guida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it differs from other 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 (i.e. prescrip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onishment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www.insidefurniture.com/insidefurniture/images/guidance.jpg"/>
          <p:cNvPicPr/>
          <p:nvPr/>
        </p:nvPicPr>
        <p:blipFill>
          <a:blip r:embed="rId1"/>
          <a:stretch/>
        </p:blipFill>
        <p:spPr>
          <a:xfrm>
            <a:off x="4572000" y="1652760"/>
            <a:ext cx="4344840" cy="4244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opportunities to fol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comment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time in the lesson to talk to individual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a written dialogue in the students’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comment tracker or targets sheet to formalise the dialogue in a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chfs.ky.gov/NR/rdonlyres/ECCA0B2A-9313-4A81-8F6E-4B0012EC34E8/0/FollowSignsArrows.jpg"/>
          <p:cNvPicPr/>
          <p:nvPr/>
        </p:nvPicPr>
        <p:blipFill>
          <a:blip r:embed="rId1"/>
          <a:stretch/>
        </p:blipFill>
        <p:spPr>
          <a:xfrm>
            <a:off x="4900680" y="2043000"/>
            <a:ext cx="3895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feedback to a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peer-assessment of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help make the teacher awar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ing needs in a manageabl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group feeds back then it dr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attention and 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that has alread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ed and sorted (meaning l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for the teach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ttp://www.kdgp.com.au/images/Feedback.jpg"/>
          <p:cNvPicPr/>
          <p:nvPr/>
        </p:nvPicPr>
        <p:blipFill>
          <a:blip r:embed="rId1"/>
          <a:stretch/>
        </p:blipFill>
        <p:spPr>
          <a:xfrm>
            <a:off x="4572000" y="1428840"/>
            <a:ext cx="4476600" cy="4476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mark each others’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ccording to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courages reflection and thought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learning as well as allowing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ee model work and reason p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pportunities to do this throug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dividual lessons and schem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570560" y="2266920"/>
            <a:ext cx="3841560" cy="2876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u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class understanding of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are teaching by asking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w their thum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up = I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half way = so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down = I don’t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ist2_4796726-thumbs-up-icon.jpg image by senordemais"/>
          <p:cNvPicPr/>
          <p:nvPr/>
        </p:nvPicPr>
        <p:blipFill>
          <a:blip r:embed="rId1"/>
          <a:stretch/>
        </p:blipFill>
        <p:spPr>
          <a:xfrm>
            <a:off x="5072040" y="1857240"/>
            <a:ext cx="3619440" cy="3619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 assessment requires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 collaboratively. Indeed, AfL i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aborative enterprise. Theref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ly teach skills of col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cess can be assis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ng collaboration with pup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making it visible as a par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http://nextup.files.wordpress.com/2007/09/collaboration.jpg"/>
          <p:cNvPicPr/>
          <p:nvPr/>
        </p:nvPicPr>
        <p:blipFill>
          <a:blip r:embed="rId1"/>
          <a:stretch/>
        </p:blipFill>
        <p:spPr>
          <a:xfrm>
            <a:off x="5191200" y="197640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-Ligh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vising a topic or subject,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the different area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and ask them to traffic 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rding to their grasp 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quently, students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le to target their revision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ly and engage in it active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an simply revie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they have done 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ively over their entir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http://ericshepherd.files.wordpress.com/2009/05/image14.png"/>
          <p:cNvPicPr/>
          <p:nvPr/>
        </p:nvPicPr>
        <p:blipFill>
          <a:blip r:embed="rId1"/>
          <a:stretch/>
        </p:blipFill>
        <p:spPr>
          <a:xfrm>
            <a:off x="5072040" y="1500120"/>
            <a:ext cx="3521160" cy="40719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te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reparing for exams,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their own question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practice answer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kes learners think explici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underlying structur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, as well as the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they are being ask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ipulate. Form as well as fun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powerauthority.on.ca/Storage.asp?StorageID=1609&amp;SiteLanguageID=1"/>
          <p:cNvPicPr/>
          <p:nvPr/>
        </p:nvPicPr>
        <p:blipFill>
          <a:blip r:embed="rId1"/>
          <a:stretch/>
        </p:blipFill>
        <p:spPr>
          <a:xfrm>
            <a:off x="5429160" y="2286000"/>
            <a:ext cx="3301920" cy="33814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produce their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-schemes working individually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groups. They can then peer-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-assess work in accor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se sch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 about the purpose of a mark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e with students – judge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, standardisa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homepages.which.net/~j.fish/images/pempro.gif"/>
          <p:cNvPicPr/>
          <p:nvPr/>
        </p:nvPicPr>
        <p:blipFill>
          <a:blip r:embed="rId1"/>
          <a:stretch/>
        </p:blipFill>
        <p:spPr>
          <a:xfrm>
            <a:off x="5429160" y="1928880"/>
            <a:ext cx="3057480" cy="3752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work in small group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on answers – when  test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ed or in other situ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f agreeing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reasoning over the valid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ensus answer, as well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ed negation of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wrong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://www.screenhead.com/wp-content/uploads/2008/10/jackson5.jpg"/>
          <p:cNvPicPr/>
          <p:nvPr/>
        </p:nvPicPr>
        <p:blipFill>
          <a:blip r:embed="rId1"/>
          <a:stretch/>
        </p:blipFill>
        <p:spPr>
          <a:xfrm>
            <a:off x="5143680" y="2143080"/>
            <a:ext cx="3504960" cy="3162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opportunities for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questions. This could be of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s, of the teacher or as a m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‘question box’ for written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s a different mea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fo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 time for students to 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about pieces of work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s open up assessmen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e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imgs.sfgate.com/c/pictures/2005/09/20/ba_bumschools20_073.jpg"/>
          <p:cNvPicPr/>
          <p:nvPr/>
        </p:nvPicPr>
        <p:blipFill>
          <a:blip r:embed="rId1"/>
          <a:srcRect l="0" t="0" r="0" b="4939"/>
          <a:stretch/>
        </p:blipFill>
        <p:spPr>
          <a:xfrm>
            <a:off x="4071960" y="1928880"/>
            <a:ext cx="4940280" cy="3036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 through T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ing allows students to arti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thoughts and thus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 thinking through tal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d group/pa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ling by teacher a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mall group work increase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ace area’ of talk in the class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opposed to whole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://1.bp.blogspot.com/_lpT5VbPe0pc/SJ60e-b1m5I/AAAAAAAAAKg/rQ4fk0uvvg8/s400/ist2_4395316-chatting-heads.jpg"/>
          <p:cNvPicPr/>
          <p:nvPr/>
        </p:nvPicPr>
        <p:blipFill>
          <a:blip r:embed="rId1"/>
          <a:stretch/>
        </p:blipFill>
        <p:spPr>
          <a:xfrm>
            <a:off x="5214960" y="214308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 th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ead of asking a questio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s factual recall, invert i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 explicit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France a democracy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es it mean for a country to be a democracy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http://www.gerryriskin.com/Question%20Mark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87520" cy="4381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 and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why  X is an example of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n apple an example of a f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 fox an example of a mam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ing in this way avoids fac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all and asks for the underl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ing to be made expli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wolfet.co.uk/images/wolfet_european_toxic_coldplay_x_and_y.jpg"/>
          <p:cNvPicPr/>
          <p:nvPr/>
        </p:nvPicPr>
        <p:blipFill>
          <a:blip r:embed="rId1"/>
          <a:stretch/>
        </p:blipFill>
        <p:spPr>
          <a:xfrm>
            <a:off x="5000760" y="171468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 you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ents write down every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know about ________ at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of the un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eacher can then teach the un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rdingly, using exi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nowledge and avoiding repet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://www.cite.auckland.ac.nz/content/images/pyramid.jpg"/>
          <p:cNvPicPr/>
          <p:nvPr/>
        </p:nvPicPr>
        <p:blipFill>
          <a:blip r:embed="rId1"/>
          <a:stretch/>
        </p:blipFill>
        <p:spPr>
          <a:xfrm>
            <a:off x="4929120" y="2286000"/>
            <a:ext cx="3952800" cy="3095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inforce the focus on redraft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-only marking by insist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ing evidence of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ctions on their own work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ing at it (have to allow tim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http://gizmodo.com/assets/resources/2008/03/BrickCorrectionTap_05_640x.jpg"/>
          <p:cNvPicPr/>
          <p:nvPr/>
        </p:nvPicPr>
        <p:blipFill>
          <a:blip r:embed="rId1"/>
          <a:stretch/>
        </p:blipFill>
        <p:spPr>
          <a:xfrm>
            <a:off x="4929120" y="242892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http://www.global-b2b-network.com/direct/dbimage/50137007/A4_Laminator.jpg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inated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laminated, stud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endly assessment cri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ying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 means of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to convey progres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and thus make what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doing more meaning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learning betwee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a learning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 to past targets and highlight where the student is achieving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ve a target chart where it is visible how the student has prog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assessment to student goal-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asconveyorsystems.co.uk/images/Dorner%20Conveyor%20Belt%20Vacuum%201.jpg"/>
          <p:cNvPicPr/>
          <p:nvPr/>
        </p:nvPicPr>
        <p:blipFill>
          <a:blip r:embed="rId1"/>
          <a:stretch/>
        </p:blipFill>
        <p:spPr>
          <a:xfrm>
            <a:off x="4643280" y="3214800"/>
            <a:ext cx="3810240" cy="262872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7" descr=""/>
          <p:cNvPicPr/>
          <p:nvPr/>
        </p:nvPicPr>
        <p:blipFill>
          <a:blip r:embed="rId2"/>
          <a:stretch/>
        </p:blipFill>
        <p:spPr>
          <a:xfrm>
            <a:off x="5297400" y="3206880"/>
            <a:ext cx="3584520" cy="20667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engaged in discussion take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ds and look at them specif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how they are being use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y ambigu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everyone using the wor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wa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http://bermudaonion.files.wordpress.com/2009/01/vocabulary.gif"/>
          <p:cNvPicPr/>
          <p:nvPr/>
        </p:nvPicPr>
        <p:blipFill>
          <a:blip r:embed="rId1"/>
          <a:stretch/>
        </p:blipFill>
        <p:spPr>
          <a:xfrm>
            <a:off x="4357800" y="2714760"/>
            <a:ext cx="4381560" cy="2809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communicat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different mediums – not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ing; drawing, drama, map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ulptur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dium is the messag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circumscribes to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t how communication can t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. Using alternative mediu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the teacher to ‘see’ student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from different 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ampro.com/assets/images/Communication_000.jpg"/>
          <p:cNvPicPr/>
          <p:nvPr/>
        </p:nvPicPr>
        <p:blipFill>
          <a:blip r:embed="rId1"/>
          <a:stretch/>
        </p:blipFill>
        <p:spPr>
          <a:xfrm>
            <a:off x="4564080" y="2057400"/>
            <a:ext cx="4079880" cy="29494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ughtful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alogue between teacher and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uld be thoughtful, refle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sed to evoke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derstanding, and conducted so th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s have an opportunity to ex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ir id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Page 12, Inside the Black Box, Paul Black &amp; Dylan William, nferNelson,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cuss the quality of dialogu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and ask them to articulate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s purpose is, why, and how (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cessary) it may be improv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www.wao.org.my/graphics/dialogue.jpg"/>
          <p:cNvPicPr/>
          <p:nvPr/>
        </p:nvPicPr>
        <p:blipFill>
          <a:blip r:embed="rId1"/>
          <a:stretch/>
        </p:blipFill>
        <p:spPr>
          <a:xfrm>
            <a:off x="5072040" y="1630440"/>
            <a:ext cx="3571920" cy="3690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-only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-only marking provides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a focus for progression instead of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 or punishment for their ego (a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de do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could be made in books,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ble at the front of books, in a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ry or journal. The latter are helpful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cher and student to tra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ession of comments and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should make it clear how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 can impr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activities and work with feedbac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d – let the design assist th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ltscotland.org.uk/learningaboutlearning/images/abbey_teacherwork_tcm4-419188.png"/>
          <p:cNvPicPr/>
          <p:nvPr/>
        </p:nvPicPr>
        <p:blipFill>
          <a:blip r:embed="rId1"/>
          <a:stretch/>
        </p:blipFill>
        <p:spPr>
          <a:xfrm>
            <a:off x="4429080" y="2500200"/>
            <a:ext cx="442908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deliver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ways, two 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wiches’ ar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ive criticism with explanation of how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ual statement – I liked….becau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w/Next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statement e.g. a question based on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http://www.kellyskindergarten.com/Games/GamestoMake/images/sandwich.JPG"/>
          <p:cNvPicPr/>
          <p:nvPr/>
        </p:nvPicPr>
        <p:blipFill>
          <a:blip r:embed="rId1"/>
          <a:stretch/>
        </p:blipFill>
        <p:spPr>
          <a:xfrm>
            <a:off x="4286160" y="20001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nd time ensuring that there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etween yourself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pils over what makes a pie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‘good’, and how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to achieve it. Use ques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a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tell me what makes a pie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work good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feel about comment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lways know what you need to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/think about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know when you have don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’ piece of work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www.betterproductdesign.net/images/design_team4.gif"/>
          <p:cNvPicPr/>
          <p:nvPr/>
        </p:nvPicPr>
        <p:blipFill>
          <a:blip r:embed="rId1"/>
          <a:stretch/>
        </p:blipFill>
        <p:spPr>
          <a:xfrm>
            <a:off x="4357800" y="1214280"/>
            <a:ext cx="46512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evaluation involves learn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, whereas self-assessmen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learn. To train pupils in self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, use questions such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what has happened w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s take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really made you think? What did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difficul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need more help wi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you pleased abou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have you learnt new about 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would you change the lear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 to suit another clas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can model answers to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 show the pupils how to self-eval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images.businessweek.com/ss/09/01/0130_career_stagnation/image/ss_12.jpg"/>
          <p:cNvPicPr/>
          <p:nvPr/>
        </p:nvPicPr>
        <p:blipFill>
          <a:blip r:embed="rId1"/>
          <a:stretch/>
        </p:blipFill>
        <p:spPr>
          <a:xfrm>
            <a:off x="4572000" y="2643120"/>
            <a:ext cx="4245120" cy="2476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‘good’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with students what make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’ question. The proces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ly show them the 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open and closed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then come up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on a topic and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best, and then mov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and answer th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http://crescendodesignblog.files.wordpress.com/2009/01/kansascity-statue-kcmo-1824740-o.jpg"/>
          <p:cNvPicPr/>
          <p:nvPr/>
        </p:nvPicPr>
        <p:blipFill>
          <a:blip r:embed="rId1"/>
          <a:stretch/>
        </p:blipFill>
        <p:spPr>
          <a:xfrm>
            <a:off x="4071960" y="3429000"/>
            <a:ext cx="4924440" cy="3260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6880" y="-360"/>
            <a:ext cx="5072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79725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aphic organisers to help pupils self-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2657520" cy="27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3000240" y="1071720"/>
            <a:ext cx="2428920" cy="298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42920" y="4143240"/>
            <a:ext cx="268128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tretch/>
        </p:blipFill>
        <p:spPr>
          <a:xfrm>
            <a:off x="6000840" y="114300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5"/>
          <a:stretch/>
        </p:blipFill>
        <p:spPr>
          <a:xfrm>
            <a:off x="2928960" y="3929040"/>
            <a:ext cx="2627280" cy="2257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6"/>
          <a:stretch/>
        </p:blipFill>
        <p:spPr>
          <a:xfrm>
            <a:off x="3071880" y="6210360"/>
            <a:ext cx="2467080" cy="647640"/>
          </a:xfrm>
          <a:prstGeom prst="rect">
            <a:avLst/>
          </a:prstGeom>
          <a:ln w="0">
            <a:noFill/>
          </a:ln>
        </p:spPr>
      </p:pic>
      <p:sp>
        <p:nvSpPr>
          <p:cNvPr id="268" name="Straight Connector 11"/>
          <p:cNvSpPr/>
          <p:nvPr/>
        </p:nvSpPr>
        <p:spPr>
          <a:xfrm flipH="1">
            <a:off x="14256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2"/>
          <p:cNvSpPr/>
          <p:nvPr/>
        </p:nvSpPr>
        <p:spPr>
          <a:xfrm flipH="1">
            <a:off x="142848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3"/>
          <p:cNvSpPr/>
          <p:nvPr/>
        </p:nvSpPr>
        <p:spPr>
          <a:xfrm flipH="1">
            <a:off x="14256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>
            <a:off x="142848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6"/>
          <p:cNvSpPr/>
          <p:nvPr/>
        </p:nvSpPr>
        <p:spPr>
          <a:xfrm flipV="1">
            <a:off x="278604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8"/>
          <p:cNvSpPr/>
          <p:nvPr/>
        </p:nvSpPr>
        <p:spPr>
          <a:xfrm flipV="1">
            <a:off x="14292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0"/>
          <p:cNvSpPr/>
          <p:nvPr/>
        </p:nvSpPr>
        <p:spPr>
          <a:xfrm>
            <a:off x="300024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21"/>
          <p:cNvSpPr/>
          <p:nvPr/>
        </p:nvSpPr>
        <p:spPr>
          <a:xfrm>
            <a:off x="300024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3"/>
          <p:cNvSpPr/>
          <p:nvPr/>
        </p:nvSpPr>
        <p:spPr>
          <a:xfrm>
            <a:off x="542916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4"/>
          <p:cNvSpPr/>
          <p:nvPr/>
        </p:nvSpPr>
        <p:spPr>
          <a:xfrm>
            <a:off x="542916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5"/>
          <p:cNvSpPr/>
          <p:nvPr/>
        </p:nvSpPr>
        <p:spPr>
          <a:xfrm>
            <a:off x="6000840" y="2637000"/>
            <a:ext cx="0" cy="11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6000840" y="114300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0"/>
          <p:cNvSpPr/>
          <p:nvPr/>
        </p:nvSpPr>
        <p:spPr>
          <a:xfrm>
            <a:off x="6000840" y="3786120"/>
            <a:ext cx="26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3"/>
          <p:cNvSpPr/>
          <p:nvPr/>
        </p:nvSpPr>
        <p:spPr>
          <a:xfrm>
            <a:off x="5572080" y="54230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4"/>
          <p:cNvSpPr/>
          <p:nvPr/>
        </p:nvSpPr>
        <p:spPr>
          <a:xfrm>
            <a:off x="5572080" y="392904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>
            <a:off x="5929200" y="5429160"/>
            <a:ext cx="3214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are taken from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aia.org.uk/pdf/Publications/AAIAformat4.pdf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page 19)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beginning of a topic pupils creat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with three column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Want To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Have Lear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begin by brainstorming and filling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two columns and then 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rd at the end of the unit (or re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out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extra column ‘How Will I Lear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http://www.educationtechnologies.com/images/3kids_kwl03s.gif"/>
          <p:cNvPicPr/>
          <p:nvPr/>
        </p:nvPicPr>
        <p:blipFill>
          <a:blip r:embed="rId1"/>
          <a:stretch/>
        </p:blipFill>
        <p:spPr>
          <a:xfrm>
            <a:off x="4938840" y="1785960"/>
            <a:ext cx="3733560" cy="40003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lenary or a starter referr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lesson, pupils share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ew things they have le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they would like to learn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http://www.onelovesouthernafrica.org/wp-content/uploads/2009/01/talk.jpg"/>
          <p:cNvPicPr/>
          <p:nvPr/>
        </p:nvPicPr>
        <p:blipFill>
          <a:blip r:embed="rId1"/>
          <a:stretch/>
        </p:blipFill>
        <p:spPr>
          <a:xfrm>
            <a:off x="4857840" y="207180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st-it notes to evaluat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, pairs or individual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e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diffic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I want to know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http://www.designcouncil.org.uk/DCImages/About%20Design/Business%20Essentials/Invention/Post-It%20notes%20LRG.jpg"/>
          <p:cNvPicPr/>
          <p:nvPr/>
        </p:nvPicPr>
        <p:blipFill>
          <a:blip r:embed="rId1"/>
          <a:stretch/>
        </p:blipFill>
        <p:spPr>
          <a:xfrm>
            <a:off x="4643280" y="1857240"/>
            <a:ext cx="3895920" cy="3895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ed or partnership oral ma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invite a partner or a gro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r comment on their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t to be effective, students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ware of learning objectiv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criteria. They should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role of a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– to offer positiv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 feedback ar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could be given prom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to ask the person who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the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www.iqpc.com/uploadedImages/Training/Asia_Training/The_Gateway/Assets/111285.JPG"/>
          <p:cNvPicPr/>
          <p:nvPr/>
        </p:nvPicPr>
        <p:blipFill>
          <a:blip r:embed="rId1"/>
          <a:stretch/>
        </p:blipFill>
        <p:spPr>
          <a:xfrm>
            <a:off x="5643720" y="1500120"/>
            <a:ext cx="2752560" cy="42674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upils they should only rais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 to ask a question, not to answer 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then chooses pupil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, therefore gaining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ther everyone is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lasstools.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ruit mach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e on here where you can in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, save it and play it to choose pup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ames on lollipop sticks and pull 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 to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umbers on balls or counters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ly to register or seating position and 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with every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http://www.samstoybox.com/toypics/HandsDownBox.jpg"/>
          <p:cNvPicPr/>
          <p:nvPr/>
        </p:nvPicPr>
        <p:blipFill>
          <a:blip r:embed="rId2"/>
          <a:stretch/>
        </p:blipFill>
        <p:spPr>
          <a:xfrm>
            <a:off x="4572000" y="1857240"/>
            <a:ext cx="4362480" cy="30099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d-unit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ing an assessment at the end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 may not provide time for you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over areas studen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ggled with, or in which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ing assessment during a unit (i.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5 of 7) allows time to revie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 and re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gives the teache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focus explicitl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s of weak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carrieanddanielle.com/wp-content/uploads/2008/07/grouse-grind-three-quarter-mark.jpg"/>
          <p:cNvPicPr/>
          <p:nvPr/>
        </p:nvPicPr>
        <p:blipFill>
          <a:blip r:embed="rId1"/>
          <a:stretch/>
        </p:blipFill>
        <p:spPr>
          <a:xfrm>
            <a:off x="4572000" y="2286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Question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explain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ight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grandpacliff.com/InvSp/Img-Inv/Img-JapKnot/JapKnot-stems-3133-50-pt.jpg"/>
          <p:cNvPicPr/>
          <p:nvPr/>
        </p:nvPicPr>
        <p:blipFill>
          <a:blip r:embed="rId1"/>
          <a:stretch/>
        </p:blipFill>
        <p:spPr>
          <a:xfrm>
            <a:off x="5072040" y="1428840"/>
            <a:ext cx="3638520" cy="4686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ing through the room whil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e engaged in an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he teacher can col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learning, emp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ssessment strategi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e where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http://3.bp.blogspot.com/_e-NZkYgfbbQ/SFQrXTxvAGI/AAAAAAAAB-A/TD6jbKx0boc/s400/Warren_G_-_Regulate_G_Funk_Era_-_Front.jpg"/>
          <p:cNvPicPr/>
          <p:nvPr/>
        </p:nvPicPr>
        <p:blipFill>
          <a:blip r:embed="rId1"/>
          <a:srcRect l="0" t="0" r="0" b="13748"/>
          <a:stretch/>
        </p:blipFill>
        <p:spPr>
          <a:xfrm>
            <a:off x="4929120" y="178596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inate a set of cards so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 of the class has four,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 and D written on them. As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with four answ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can show you thei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them not to look at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response so as to c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ttp://api.ning.com/files/WdN1Abk4ruK5tQejqnN6d6*Yz7XXWiEfSmxJrMW5tDJ0Ssi-DPxp-oIQQuuCoZMC8tLJza3LxhTUhnZD63jWQbyL1Ncae-3X/ABCD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76800" cy="38624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omework ask students to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best piece of work and the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you why it is their best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 could refer to su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, levels, targe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ttp://newsimg.bbc.co.uk/media/images/40953000/jpg/_40953824_best_ni_1971_pa.jpg"/>
          <p:cNvPicPr/>
          <p:nvPr/>
        </p:nvPicPr>
        <p:blipFill>
          <a:blip r:embed="rId1"/>
          <a:stretch/>
        </p:blipFill>
        <p:spPr>
          <a:xfrm>
            <a:off x="3643200" y="3073320"/>
            <a:ext cx="5248440" cy="3784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ini-whiteboards so that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can write or draw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and show it to you (or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)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://www.janakenshop.co.uk/ekmps/shops/janaken/images/mwbuh.jpg"/>
          <p:cNvPicPr/>
          <p:nvPr/>
        </p:nvPicPr>
        <p:blipFill>
          <a:blip r:embed="rId1"/>
          <a:srcRect l="1594" t="3193" r="2660" b="2660"/>
          <a:stretch/>
        </p:blipFill>
        <p:spPr>
          <a:xfrm>
            <a:off x="4143240" y="1576440"/>
            <a:ext cx="4857840" cy="47768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http://www.dsf.health.state.pa.us/health/lib/health/GoActivePMSColors1.jpg"/>
          <p:cNvPicPr/>
          <p:nvPr/>
        </p:nvPicPr>
        <p:blipFill>
          <a:blip r:embed="rId1"/>
          <a:stretch/>
        </p:blipFill>
        <p:spPr>
          <a:xfrm>
            <a:off x="3857760" y="2500200"/>
            <a:ext cx="5054400" cy="3279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AfL is students being a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d participants in their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ways in which content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ed for these ends, r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the other way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tent seems boring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approach fun or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and Short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aw together progression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picture, students could set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and short term targ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rt term target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weekly or fortnightly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targets at the end of 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a long term target may g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gency to the pupil’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’s short term targets. It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 the pupil to focus on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 motivates them abou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http://almandsoncom.superpageshosting.com/nss-folder/pictures/smallCartoonHouse.gif"/>
          <p:cNvPicPr/>
          <p:nvPr/>
        </p:nvPicPr>
        <p:blipFill>
          <a:blip r:embed="rId1"/>
          <a:stretch/>
        </p:blipFill>
        <p:spPr>
          <a:xfrm>
            <a:off x="5048280" y="1647720"/>
            <a:ext cx="17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http://bp0.blogger.com/_4VSSbxhl00U/RqThxUQ1FxI/AAAAAAAAADs/ZE3Gij8oMes/s320/Cartoon+Castle.jpg"/>
          <p:cNvPicPr/>
          <p:nvPr/>
        </p:nvPicPr>
        <p:blipFill>
          <a:blip r:embed="rId2"/>
          <a:stretch/>
        </p:blipFill>
        <p:spPr>
          <a:xfrm>
            <a:off x="6858000" y="4016520"/>
            <a:ext cx="1895400" cy="2158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http://www.magnetick.co.uk/media/gbu0/prodsm/magnetic-paper-a4-a3.jpg"/>
          <p:cNvPicPr/>
          <p:nvPr/>
        </p:nvPicPr>
        <p:blipFill>
          <a:blip r:embed="rId1"/>
          <a:stretch/>
        </p:blipFill>
        <p:spPr>
          <a:xfrm>
            <a:off x="5357880" y="395280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ut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identify the most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ful, meaningful, unlikely) 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learnt during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www.kelston.org.uk/assets/images/minute.jpg"/>
          <p:cNvPicPr/>
          <p:nvPr/>
        </p:nvPicPr>
        <p:blipFill>
          <a:blip r:embed="rId2"/>
          <a:stretch/>
        </p:blipFill>
        <p:spPr>
          <a:xfrm>
            <a:off x="5786280" y="1500120"/>
            <a:ext cx="1936800" cy="25765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quir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enquiry question to stim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level thinking in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emocratic is the United King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ur school so ethnically dive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nquiry-based learning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mpus.manchester.ac.uk/ceebl/ebl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http://www.arabwebagency.com/images/enquiry-img.jpg"/>
          <p:cNvPicPr/>
          <p:nvPr/>
        </p:nvPicPr>
        <p:blipFill>
          <a:blip r:embed="rId2"/>
          <a:stretch/>
        </p:blipFill>
        <p:spPr>
          <a:xfrm>
            <a:off x="5143680" y="1571760"/>
            <a:ext cx="3295440" cy="41814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iley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raw smiley faces to indicate how comfortable they are with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tbn0.google.com/images?q=tbn:bTWYMRfBSE6riM:http://www.plu.edu/~kcnstv26/img/smiley-face.jpg"/>
          <p:cNvPicPr/>
          <p:nvPr/>
        </p:nvPicPr>
        <p:blipFill>
          <a:blip r:embed="rId1"/>
          <a:stretch/>
        </p:blipFill>
        <p:spPr>
          <a:xfrm>
            <a:off x="642960" y="2714760"/>
            <a:ext cx="1685880" cy="1699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tbn0.google.com/images?q=tbn:Y51Ew6yX5Cpu4M:http://www.terceraescuadrilla.com/almacen/personal/DSLam/swg/smiley-indifferent.jpg"/>
          <p:cNvPicPr/>
          <p:nvPr/>
        </p:nvPicPr>
        <p:blipFill>
          <a:blip r:embed="rId2"/>
          <a:stretch/>
        </p:blipFill>
        <p:spPr>
          <a:xfrm>
            <a:off x="3786120" y="278604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tbn3.google.com/images?q=tbn:HIeXjhQ3CVyXYM:http://static.bigstockphoto.com/thumbs/7/3/3/small/3376000.jpg"/>
          <p:cNvPicPr/>
          <p:nvPr/>
        </p:nvPicPr>
        <p:blipFill>
          <a:blip r:embed="rId3"/>
          <a:stretch/>
        </p:blipFill>
        <p:spPr>
          <a:xfrm>
            <a:off x="6572160" y="2714760"/>
            <a:ext cx="1762200" cy="17618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7"/>
          <p:cNvSpPr/>
          <p:nvPr/>
        </p:nvSpPr>
        <p:spPr>
          <a:xfrm>
            <a:off x="214200" y="4857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y to mo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286080" y="4786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 some parts but no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215040" y="4857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understand and need to look a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gh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questioning, insert th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ht’ to give students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think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meaning of democra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might the meanin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cracy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infers a single answer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the teacher whereas the secon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herently mor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smarteconomy.typepad.com/.a/6a00d8341ed85853ef0105365f1211970c-800wi"/>
          <p:cNvPicPr/>
          <p:nvPr/>
        </p:nvPicPr>
        <p:blipFill>
          <a:blip r:embed="rId1"/>
          <a:stretch/>
        </p:blipFill>
        <p:spPr>
          <a:xfrm>
            <a:off x="4572000" y="1857240"/>
            <a:ext cx="3968640" cy="2793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429160" y="471492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might the Great Depression look like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upil has finished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hey draw a square on the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do not understand the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olour it red, if they are so-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yellow and if A-OK the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creativeclass.typepad.com/thecreativityexchange/images/red_sqaure.jpg"/>
          <p:cNvPicPr/>
          <p:nvPr/>
        </p:nvPicPr>
        <p:blipFill>
          <a:blip r:embed="rId1"/>
          <a:stretch/>
        </p:blipFill>
        <p:spPr>
          <a:xfrm>
            <a:off x="4786200" y="15001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printsandprintmaking.gov.au/images/small/154758/wicks-arthur-yellow-square.jpg"/>
          <p:cNvPicPr/>
          <p:nvPr/>
        </p:nvPicPr>
        <p:blipFill>
          <a:blip r:embed="rId2"/>
          <a:stretch/>
        </p:blipFill>
        <p:spPr>
          <a:xfrm>
            <a:off x="6929280" y="3571920"/>
            <a:ext cx="1704960" cy="17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nigeltomm.files.wordpress.com/2009/02/green_square_nigel_tomm_m.jpg"/>
          <p:cNvPicPr/>
          <p:nvPr/>
        </p:nvPicPr>
        <p:blipFill>
          <a:blip r:embed="rId3"/>
          <a:stretch/>
        </p:blipFill>
        <p:spPr>
          <a:xfrm>
            <a:off x="5000760" y="478620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i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down one or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on which they are least cl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uld be from the prev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, the rest of the unit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ing activity etc. The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ass can then seek to reme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dd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://users.ox.ac.uk/~sg/ridgeway/11%20Mud.jpg"/>
          <p:cNvPicPr/>
          <p:nvPr/>
        </p:nvPicPr>
        <p:blipFill>
          <a:blip r:embed="rId1"/>
          <a:stretch/>
        </p:blipFill>
        <p:spPr>
          <a:xfrm>
            <a:off x="4286160" y="2286000"/>
            <a:ext cx="4619880" cy="3463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entenc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a sen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sing their knowledge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 could have to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, what when, why, how,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s could then be pe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ed, re-drafted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http://www.hogdb.com/razorback-photos/albums/yearly_photos/1890s/1894/1894-Arkansas-Sentinel-Fayetteville-11131894.jpg"/>
          <p:cNvPicPr/>
          <p:nvPr/>
        </p:nvPicPr>
        <p:blipFill>
          <a:blip r:embed="rId1"/>
          <a:stretch/>
        </p:blipFill>
        <p:spPr>
          <a:xfrm>
            <a:off x="4500720" y="2230560"/>
            <a:ext cx="4457520" cy="20826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ait time allows students time to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herefore to produce answers. Al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 everyone in the class think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me speed or in the same way – wa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lows students to build their thou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explore what has been as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 types of wait tim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acher speaks and then waits before taking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response ends and then teacher waits before responding. This gives the student space to elaborate or continue – or for another student to resp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www.leda-lite.co.uk/wait/wait_1.JPG"/>
          <p:cNvPicPr/>
          <p:nvPr/>
        </p:nvPicPr>
        <p:blipFill>
          <a:blip r:embed="rId1"/>
          <a:stretch/>
        </p:blipFill>
        <p:spPr>
          <a:xfrm>
            <a:off x="5286240" y="1214280"/>
            <a:ext cx="28576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vs cl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d questions can be use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are not great at facilit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se of abstract thinking ski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talking or eliciting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. Open question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likely to do this and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d you go out last n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id you after school yester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photomagnets.com/openclosedledneonsign.jpg"/>
          <p:cNvPicPr/>
          <p:nvPr/>
        </p:nvPicPr>
        <p:blipFill>
          <a:blip r:embed="rId1"/>
          <a:stretch/>
        </p:blipFill>
        <p:spPr>
          <a:xfrm>
            <a:off x="4929120" y="1214280"/>
            <a:ext cx="347652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0:16:01Z</dcterms:created>
  <dc:creator>mgershon</dc:creator>
  <dc:description/>
  <dc:language>en-US</dc:language>
  <cp:lastModifiedBy>Shore</cp:lastModifiedBy>
  <dcterms:modified xsi:type="dcterms:W3CDTF">2009-08-25T03:24:40Z</dcterms:modified>
  <cp:revision>35</cp:revision>
  <dc:subject/>
  <dc:title>Assessment For Learning Activities</dc:title>
</cp:coreProperties>
</file>